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4288-1118-4BFB-B986-980B6728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4D07-C91B-4C6B-9F0B-B031D57A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A54-1D5E-4119-9DCA-563C894D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5732-4A3B-4F20-8FC7-656FB500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D38-A123-4775-9DC8-45C15704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081-9F1E-40BF-BF6C-8C2FD949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B43-ACB2-4E42-98DA-B1DB7DA8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9CA6-FD2E-414F-9A5E-F1FB78C8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3D1-2EE4-46FE-B6A7-21733B7F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950-9FCE-45A9-889D-1A1D03B2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90CF-BBB0-4E13-BD14-31CD4EBC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6917-6CEF-4BF6-938F-11A123CA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1A66-5482-4714-8048-12F1B64A1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4339" r="0" b="43717"/>
          <a:stretch/>
        </p:blipFill>
        <p:spPr>
          <a:xfrm>
            <a:off x="1042920" y="907920"/>
            <a:ext cx="705636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6:42:30Z</dcterms:created>
  <dc:creator>נוה חנה</dc:creator>
  <dc:description/>
  <dc:language>en-US</dc:language>
  <cp:lastModifiedBy>נוה חנה</cp:lastModifiedBy>
  <dcterms:modified xsi:type="dcterms:W3CDTF">2012-01-02T06:43:32Z</dcterms:modified>
  <cp:revision>1</cp:revision>
  <dc:subject/>
  <dc:title>שקופית 1</dc:title>
</cp:coreProperties>
</file>